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708-8CFD-4762-91A6-673F7616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5A58-300A-4837-9D79-B8A97096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B325-3496-4F8A-BBC6-69D4A6D0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384C-343C-49B8-8E93-C71D32FD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3EB-7A12-48BC-BCE9-D8A74612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9CE6-4A05-42B7-8E07-F8867F6F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9A3-461D-43C0-9A7B-5582716A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017D-C060-4A12-955B-B7FACCE4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BE2-DE81-4AB2-92B1-5127AC80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B4D7-829D-40A7-8470-D6752883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889-01B5-416F-B598-92F3E1C1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26B8-6397-4603-8111-E65B15BC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DADA-8EDD-4C65-BAC1-C171CA91C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Wor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erra Wal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6600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llection of servers that offer netn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ccff99"/>
            </a:gs>
            <a:gs pos="100000">
              <a:srgbClr val="00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radley Hand ITC"/>
              </a:rPr>
              <a:t>Bandwidth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Amount of data and the speed at which the data can travel over the transmission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3580920"/>
            <a:ext cx="28954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 computer that access a server to request in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3600" y="2133720"/>
            <a:ext cx="2286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D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Digital subscriber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reless Network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ype of network that does not require the use of 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3733920"/>
            <a:ext cx="2590920" cy="25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ique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The etiquette that should be followed when using a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3920" y="2285640"/>
            <a:ext cx="4038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Interface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Circuit board that goes into the base unit of a computer or other device in a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42840" y="304560"/>
            <a:ext cx="6172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 Sites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A series of related web pag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600" y="5257440"/>
            <a:ext cx="6477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radley Hand ITC"/>
              </a:rPr>
              <a:t>A stand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Birch Std"/>
              </a:rPr>
              <a:t>The logical arrangement of the nodes on a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Std Black"/>
              </a:rPr>
              <a:t>Internet services providers is company that offers access to the internet for a f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mail which allows individuals with an account to send messages to another person with en e-m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relay chat was developed in 19988 by Jarkko Oikarinen and allows instant online communicating with someone else who is also online by typing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in board service allows a user to participate in a discussion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text transfer protocol is used for handling the transmission of pages between a web server and a web brow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50000">
              <a:srgbClr val="ffffff"/>
            </a:gs>
            <a:gs pos="100000">
              <a:srgbClr val="66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 used in networks such as the internet to allow users to remotely log on to a server on th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2819160"/>
            <a:ext cx="25909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first widespread internet browsing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57440" y="1599840"/>
            <a:ext cx="3429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twork used by a single organization and only accessible by authorized 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rewa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 network security system that prevents unauthorized network a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819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Ex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Extended intranet that provides various level of access to authorized members of the publ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5520" y="2819160"/>
            <a:ext cx="3200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Online Pro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Marketing techniques that collects online data about consu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iles that contain information about the web sites an individual has vis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26:29Z</dcterms:created>
  <dc:creator>762703</dc:creator>
  <dc:description/>
  <dc:language>en-US</dc:language>
  <cp:lastModifiedBy>762703</cp:lastModifiedBy>
  <dcterms:modified xsi:type="dcterms:W3CDTF">2009-04-20T15:25:03Z</dcterms:modified>
  <cp:revision>4</cp:revision>
  <dc:subject/>
  <dc:title>Key Words </dc:title>
</cp:coreProperties>
</file>